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3E2-C001-440F-964D-E6D5F0D8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5C9-5825-4E5C-8F23-4A22B8CF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635-9338-4B45-B99E-A804B2F1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AEB-5D8F-4BD7-A48E-77DCBF55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6E5-69B7-432E-B4F6-D48467C2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C36-2342-4F07-8B27-5E8F3DF1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26D-2881-4129-9AC6-CFAECA1B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D34-7414-431F-828B-A6AF5A7D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F3F-A56F-4BEF-8931-4624658C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7FC-6CF1-4E1E-9428-54D8D4C4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10F-5A96-48C5-B241-63091413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A0D-9B06-41DA-AC9D-1E25BD9A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7D81-CE7D-4094-9DB1-16632D4C4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-76320"/>
            <a:ext cx="6933960" cy="693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5105520"/>
            <a:ext cx="35812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new grass to have same grass top style as this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3733920" y="4648320"/>
            <a:ext cx="761760" cy="45720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286000" y="4572000"/>
            <a:ext cx="533520" cy="45720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429000"/>
            <a:ext cx="914400" cy="990720"/>
          </a:xfrm>
          <a:prstGeom prst="ellipse">
            <a:avLst/>
          </a:prstGeom>
          <a:noFill/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3581280"/>
            <a:ext cx="914400" cy="990720"/>
          </a:xfrm>
          <a:prstGeom prst="ellipse">
            <a:avLst/>
          </a:prstGeom>
          <a:noFill/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3124080"/>
            <a:ext cx="380880" cy="609840"/>
          </a:xfrm>
          <a:prstGeom prst="ellipse">
            <a:avLst/>
          </a:prstGeom>
          <a:noFill/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219320"/>
            <a:ext cx="35812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is sail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971440" y="1676520"/>
            <a:ext cx="304920" cy="144756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2T10:36:15Z</dcterms:created>
  <dc:creator>Jen</dc:creator>
  <dc:description/>
  <dc:language>en-US</dc:language>
  <cp:lastModifiedBy>Larsons</cp:lastModifiedBy>
  <dcterms:modified xsi:type="dcterms:W3CDTF">2017-06-02T10:49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